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9F6B-F4DB-4880-BBAD-62723818E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BC2A-EF5B-40D0-B2E7-D78DCDF8E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ADE9-C5EE-460D-B526-92950F947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7877-8DF1-4ED0-95A0-8588D052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0AD7-1B4E-473E-8136-A19C314D4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3AD5-608B-4F0A-A507-83EB517AC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F1E9-9511-4D3A-86DF-9FB8B94A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0C83-2D38-4D52-AE68-F291697E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C015-5238-454A-B6F4-8DF8ED24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A3B3-01DA-4607-AF52-8543A565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AC8A-8F05-46C1-BF84-A8B710AA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9E6F-D475-47D9-B52D-5DF87494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1EE4-38FA-450D-A2CE-186C9189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B79B-F136-4EE3-B087-B41F12C9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FCF2-920B-4657-B0FA-4504F89BD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917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pter 14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Human Resources (HR) Management and Payroll Processes</a:t>
            </a:r>
            <a:br>
              <a:rPr sz="4000"/>
            </a:b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1920" y="3580920"/>
            <a:ext cx="89917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ccounting Information System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7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ric J. Gelinas and Richard Du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5791320"/>
            <a:ext cx="845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© 2008 Thomson Southwestern, a part of The Thomson Corporation. Thomson, the Star logo, and South-Western are trademarks used herein under licens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210D-310E-4D6B-89E2-CA794AD3ACE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ster Data related to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R and PR Fun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yroll fun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tablishes authorization for payroll even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ides inpu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y ra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emp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du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storical payroll data - periodic repor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x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u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tirement program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95680" y="1657440"/>
            <a:ext cx="411480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R functio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term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loyee's assigned depar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ephon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er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te and manage human capital skill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formance evaluatio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83FE-80F2-4E5B-A992-05891ED346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yroll Process Context Diagra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52480" y="1471680"/>
            <a:ext cx="5491440" cy="508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675E-7C96-49BE-9844-D0D5FE146C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yroll Process: Level 0 DF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 rot="5400000">
            <a:off x="1795320" y="-42840"/>
            <a:ext cx="5476680" cy="754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4696-6CAD-41BC-87BB-5F9CE8BC74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62120" y="3049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ayroll Process – Diagram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162920" cy="35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4959-B048-4007-982A-D074F37E8F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counting Entries – Payroll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Y EMPLOYE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TABLISH VARIOUS PAYROLL LIABILITI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yroll clearing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T withholdings payabl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IT withholdings payabl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CA tax withholdings payabl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ccrued payroll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CORD THE DISBURSEMENT OF CASH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ccrued payroll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h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STRIBUTE PAYROLL TO VARIOUS ACCOUNT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ork in process (direct labor)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nufacturing overhead (indirect labor)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eneral and administrative expens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lling expens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yroll clearing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841A-5162-4CED-A271-8F314A5BB6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ccounting Entries Cont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CRUE EMPLOYER PAYROLL TAX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nufacturing overhead (tax on factory workers)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eneral and administrative expens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lling expens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CA taxes payabl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T taxes payabl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TA taxes payabl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ORD TAX DEPOSI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T withholdings payabl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T withholdings payabl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CA tax withholdings payabl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CA taxes payabl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T taxes payabl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TA taxes payabl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s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BC74-83B5-43F8-BA3F-07955F6B77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yroll Process Flowchar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 rot="5400000">
            <a:off x="1913760" y="-390240"/>
            <a:ext cx="5143680" cy="821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01DB-7BE7-4E3F-A965-198F81C4B1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yroll Has High Fraud Potentia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s of payroll fraud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host employees (employees who don’t exist but are issued paycheck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lsified hours (employees who overstate hours worked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ission schemes (collecting commissions on false sales or using false commission rat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rker’s comp schemes (faking injury to receive compensatio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A7E4-D8A7-41FA-9C1A-240AB37BB1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yroll System Control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gregation of duties between HR (employee record creation), payroll (prepares payroll) and AP/cashier (disburses cash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rect deposit (eliminates opportunity for check fraud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of employee master data for duplicate names and/or social security numb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arison of actual payroll to budg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3BCB-4A83-42E2-AA58-37CFB9B21E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imbursement Frau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imbursement for employee business expenses often clear the payroll system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iming personal expenses as business relat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tering receipts to increase expen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bmitting false receip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bmitting same expense multiple tim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1481-8185-4E95-8D76-07055F3F80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77320" cy="475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e and understand the basic functions of the HR management and payroll process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cribe the relationship between the HR management and payroll processes and their environm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rehend the relationship between the HR management and payroll processes and management decision mak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pict the logical and physical elements of the HR management and payroll process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cribe some of the technology used to implement the HR management and payroll process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pare a control matrix for a typical payroll process, including explanation of how business process control plans can accomplish payroll operations and information control goal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7CB0-54AC-4659-AFA5-A97F340B4D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yroll Process Control Matrix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954160"/>
                <a:gridCol w="417600"/>
                <a:gridCol w="525600"/>
                <a:gridCol w="561960"/>
                <a:gridCol w="797040"/>
                <a:gridCol w="798480"/>
                <a:gridCol w="434880"/>
                <a:gridCol w="471600"/>
                <a:gridCol w="434880"/>
                <a:gridCol w="415800"/>
                <a:gridCol w="41760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 Goals of the Payroll Business Proc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 goals of the operations proces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 goals of the information proc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ommended control plan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sure effectiveness of operation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sure efficient employment of resourc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sure security of resources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 time data inputs, ensure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 empl/PR master data, ensure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 Control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1: Enter time data close to the data’s originating sour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2: Computer agreement of batch total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3:     Approve attendance time data and job time da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4:     Reconcile attendance time data and job time da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5:     Distribute labor cos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6:     Independent paycheck distribu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7:     Approve payroll transfer chec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8:     Accumulate payroll data for reconciliation of the payroll clearing accou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9:     Use a payroll clearing accou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10:    Prepare miscellaneous repor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F962-121A-44FE-BC82-1F555FDF28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yroll Process Control Matrix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57200" y="1600200"/>
          <a:ext cx="8229240" cy="3809520"/>
        </p:xfrm>
        <a:graphic>
          <a:graphicData uri="http://schemas.openxmlformats.org/drawingml/2006/table">
            <a:tbl>
              <a:tblPr/>
              <a:tblGrid>
                <a:gridCol w="3324600"/>
                <a:gridCol w="532800"/>
                <a:gridCol w="478080"/>
                <a:gridCol w="513720"/>
                <a:gridCol w="624960"/>
                <a:gridCol w="550800"/>
                <a:gridCol w="404280"/>
                <a:gridCol w="422640"/>
                <a:gridCol w="459360"/>
                <a:gridCol w="422280"/>
                <a:gridCol w="495720"/>
              </a:tblGrid>
              <a:tr h="28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 Goals of the Payroll Business Proc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 goals of the operations proces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 goals of the information proc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4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ommended control plan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sure effectiveness of operation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sure efficient employment of resourc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sure security of resources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 time data inputs, ensure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 empl/PR master data, ensure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ssing Control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1 Independent reconciliation of payroll bank accou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2 Use an imprest payroll bank accou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2 Computer agreement of batch totals (agree run-to-run total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533520" y="5715000"/>
            <a:ext cx="7772400" cy="961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ectiveness goals inclu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— Provide employees with timely payche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 — Provide timely filing of tax returns and other reports to government agen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— Comply with requirements of payroll and tax laws and reg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6F56-6131-4699-8B66-B8C2A81E60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yroll Part of HR Modul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 is common for payroll to be part of the HR module in software (SAP exampl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3581280" cy="497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788A-FB16-4FCD-816A-991B055AC1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gure 14.1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HR module includes options for both HR and payroll, among oth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advantages gained by allowing the two processes to share common data includ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ing a single source for obtaining HR inform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iding for faster data acce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nimizing data redunda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suring data integrity and consist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cilitating data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roving data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75FA-D8E0-485E-B312-2BADC1C78C8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ing the HRM Proce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ocess Inputs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general, the HR forms in the figure capture information about three HR-related events: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1) selecting employe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2) evaluating employees, and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3) terminating employe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7D1C-066F-45FE-8DDD-E2581840381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ing the HRM Proce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electing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ployees may be initiated in one of two way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partmental managers (outside the HR department) may initiate the process to satisfy their immediate hiring nee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lection process may be started by the system automatical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E07D-DBCE-4997-B90B-9046D51E03C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ing the HRM Proce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valuating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ployees comprises a multitude of activit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partmental managers and supervisors (again, outside the HR function) usually initiate evaluations or other changes affecting employee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anager of personnel appraisal and development (in HR) typically approves the review and implements such chang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A8EC-A212-46BA-9F80-BDA5A3A71FD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ing the HRM Proce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erminating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mployees closes the employment process loo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ically, departmental managers and supervisors (in concert with HR managers) must make difficult decisions about the retention of employe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a termination is necessary, the employee change screen is used to initiate the process of changing an employee’s status from current employee to terminated employ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0613-2794-44CB-B397-1F78AEEBB02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plementing the HRM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rocessing Logic and Process Outputs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R requests initiated outside of the HR department are approved within that department and then routed to HR for approv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me data may be entered within HR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employee/payroll master data, skills inventory data, and labor-force planning data within the enterprise database are updated and various reports are made available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veral outputs are produc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hire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employment letter is sent to the employee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lection notice is sent to the department manag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edback on job performance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mployee review for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mination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mployees are notified of a dismissal through a dismissal lett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mination notice sent to the operating department manager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A23E-7AE9-4463-82FC-D5964D40382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plementing the HRM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RM process prepares reports for government and non-government enti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yroll reports: employee federal, state, and local tax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R reports might include those provided to the following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qual Employment Opportunity (EEO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ccupational Safety and Health Administration (OSHA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ment of Lab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are also numerous communications to employees of HR-related information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b opening announcem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ining inform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hone book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nefits literat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licy and procedure manuals, and the like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companies have found that such materials can be disseminated effectively and efficiently through an HR portal, which serves as a central data source for such informa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716E-8040-4D35-B4AF-E96464C03C3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cess Definition and Fun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sonnel management started by handling payroll and personnel administration, but evolved by adding functions to handle recruiting, employee relations, and so 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RM still viewed personnel as something that could be controll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CM philosophy is based on three major principle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individual’s value to an organization is derived from his/her job-related knowledge, skills, attitude, and motiv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uman assets include full-time permanent employees,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lu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-time employees, temporary employees, and independent contractor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upply chain managem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an organization’s human assets could include employees of suppliers, sales channel partners, and custom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person’s relationship with an organization, from hiring through termination, must be nurtured and managed to obtain maximum lifetime valu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B898-6B7C-4E28-A882-F6D5635E18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R Management Flowchar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2120" y="1117440"/>
            <a:ext cx="7543800" cy="543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C1DE-C1DA-4B77-AA20-0FB94316642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Key Data Tables in  the HR Proces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ough the flowchart shows only one data store, multiple database tables are contained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mployee/payroll master dat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bor-force planning data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ffing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kills requi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urnover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kills inventory dat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06C7-74E6-4FE9-9B20-72CA354657F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Payroll Proce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yroll generally falls under the controller’s office with the treasurer participating in distributing paycheck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6096240" cy="411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1BD5-2A01-4A7C-B714-037B6567E87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yroll Data and Flow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x rates dat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ains current tax rates (federal, state, county and city) for employee withholding and employer accru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endance time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sts hours employee are at the job site available for work; usually kept on time ca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b time reco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rt and stop times for particular jobs for direct labor distribu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E311-4200-4DB1-94F3-640E50A0B3D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ederal Payroll Tax Repor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41 (report of FICA taxable wage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-2 (employee wage and tax statement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99 (reports non-salary incom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ployee Retirement Income Security Act (ERISA) reports (reports on private pension fund assets management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41D5-BE69-4243-909D-3C1D66E91E0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uties of HR Manage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05120" y="1009800"/>
            <a:ext cx="4698720" cy="579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FDBA-35BA-494F-8129-D4141E1BBA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uties of HR Manage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52480" y="1265400"/>
            <a:ext cx="5639040" cy="519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3DCD-99FD-444F-9856-AF6DB58496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efinition of HR Management Proces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mary function of the HRM process is to create information flows that support the follow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etitive work routines of the HR depart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cision needs of those who manage the HR depart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HRM process supports the work routines of the HR department and provides information for management decisions b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pturing, recording, and storing data concerning HR activi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ting a variety of HR forms and docu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paring management repor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paring governmental repor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F14E-E3F1-472C-B485-5B69F1C664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 Payroll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y companies often merge payroll and H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ayroll process maintains records of payroll taxes, fringe benefits, attendance/absence, time worked and employee payche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ayroll process is generally automated because computers are much faster at handling the repetitive computations necessary (payroll is also the most frequently outsourced application in accounting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ent HR software reaches far beyond simply doing payroll and include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efits admin, applicant tracking/processing, skills inventories and compliance repor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ch of HRM is NOT captured by GA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t accountants must recognize the immense value of human capital and its affect on the long-term financial health of the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D3CA-BB8B-4CAA-A5F7-416EA5086D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rganization Chart of the HR Func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66680" y="2438280"/>
            <a:ext cx="6896160" cy="213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AA2A-313D-4F13-97E9-33B5D87A16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echnology Trends and Developmen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R self service sys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R Manu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tirement progra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sonal profi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nse repo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sourc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-based collabo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yro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nterprise systems may integrate HRM wi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l Accoun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istic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les and Distribu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Workflow Modu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DC49-5AAB-463A-ADBA-CA9A68E1C2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4T20:29:55Z</dcterms:created>
  <dc:creator>Sarah Bee</dc:creator>
  <dc:description/>
  <dc:language>en-US</dc:language>
  <cp:lastModifiedBy> </cp:lastModifiedBy>
  <dcterms:modified xsi:type="dcterms:W3CDTF">2008-06-09T20:29:31Z</dcterms:modified>
  <cp:revision>23</cp:revision>
  <dc:subject/>
  <dc:title>Chapter 14</dc:title>
</cp:coreProperties>
</file>